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57680" y="514080"/>
            <a:ext cx="3420720" cy="25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69744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64AF0-FC1C-49A3-8078-D343ACDC2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quito from poster?  GMOD gears? GMOD Gears + GM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trick Phillips donates office space for the help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57680" y="514440"/>
            <a:ext cx="342576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98A-4048-4E20-8B2B-B81AEF51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618-E434-4675-89DA-563BF85F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8F5-3944-4245-A35C-5CA18EA5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4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4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B50-2261-47B7-8C29-65B6C95B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886-1556-43A3-9401-890927FA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7FC-E1AB-42E5-BF81-5AA2E026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B22-4834-4039-A24F-DA9F0AF9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800-6874-4772-B378-B591AB27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920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694-5DD0-4BB6-9BAB-157DC996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220-7D3F-48D6-9431-2B32C948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BE7-460B-429A-86E7-37F4971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578-C7FF-477C-B746-B1BE4CBA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19D7E-5D58-4194-AF19-433FBEA4BD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6129360"/>
            <a:ext cx="914400" cy="6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mtools.sourceforge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32000"/>
            <a:ext cx="77724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6-7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7440" y="5427720"/>
            <a:ext cx="232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t Cain, Ph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MOD Project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tario Institute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nce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tt@scottcai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2240" y="268200"/>
            <a:ext cx="1712880" cy="12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52920" y="5514840"/>
            <a:ext cx="201924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Gen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in GBrowse2; GBrowse1 may work with some finag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SAM/BAM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amtools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XY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density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l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aired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M/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15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36240"/>
            <a:ext cx="777096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: Widely used CMS, ver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 is a set of modules for Drupal to interact with a Chado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tegrate GBrowse/C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1190520"/>
            <a:ext cx="835488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3271680"/>
            <a:ext cx="3846600" cy="2830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2920" y="1430280"/>
            <a:ext cx="19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HL/OI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4720" y="238284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 Hol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ch Sk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57680" y="2622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mson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en Fic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interoperable tools for managing, annotating, and viewing genomic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- genom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lo - genome annotatio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p - comparative mapping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bil and GBrowse_syn - comparative genomics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many other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munity of users and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s, semi-annu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52680" y="45720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M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'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Browse (formerly GBrowse 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Gen sequencing support for 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/Dru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end rearchitectur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s and render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track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67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7400"/>
            <a:ext cx="7769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plete re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JAX for client side rendering, Google Map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J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with GBrowse 1.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use of data adaptors/databases that GBrows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0" y="1625760"/>
            <a:ext cx="914400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81200" y="1403280"/>
            <a:ext cx="7619760" cy="47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MOD / NESCent</dc:creator>
  <dc:description/>
  <dc:language>en-US</dc:language>
  <cp:lastModifiedBy>GMOD / NESCent</cp:lastModifiedBy>
  <cp:revision>0</cp:revision>
  <dc:subject/>
  <dc:title>PowerPoint Presentation</dc:title>
</cp:coreProperties>
</file>